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480-B148-4D35-BAA8-B1B8302F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273-C2F7-4B95-9B7B-72E8A28B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A2B4-4591-4B4F-82B6-D0EBA794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EB7-7D2B-4404-A875-BEC898F1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8F7E3-8B36-44A0-9777-28F308DB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D517A-CDB3-41A9-BD7C-4783AEC1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77F99-73D7-4E01-9EC8-5B784A6A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3FF60-6AA7-4092-926F-3CE354C8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222CF-E5C4-442A-BDBE-15E2FC2B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96571-94C9-4A6A-9F2A-DD7099B9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195B1-CBC8-474B-A370-1F9E0C14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FCC-68FC-4804-8BA2-40B8B4B5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11C4E-75FC-4074-979C-51BBBD1C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99509-AE9A-40E0-AC69-049C3050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9E27E-2C7B-45FA-A2BE-420BAEBF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41FD8-5B17-4638-BD10-C66408CE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77EC4-B6EE-40CD-B7B4-C62881DB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21B7-009C-4FE1-ADC5-F79C3C8A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1A7-336F-48B1-AD74-82ED098A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F5D-557C-4FF9-A3DF-FE1E6BF1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7DB-1E35-4ACA-B01E-5FD02650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E89-EF43-4999-B96F-603B9B22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3EF-3707-4A40-A8F4-164A2DB2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128-E451-4AE3-BF3C-B4D55EDF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2526-476E-468D-9A43-4C4AC4F7BDC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ADA3-B7FB-496E-8FAC-12A36E4438AA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askerville Old Face"/>
              </a:rPr>
              <a:t>Stream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69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mber R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By: Ahren McCutche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MC900198101[1]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373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MC900198101[1]"/>
          <p:cNvPicPr/>
          <p:nvPr/>
        </p:nvPicPr>
        <p:blipFill>
          <a:blip r:embed="rId2"/>
          <a:stretch/>
        </p:blipFill>
        <p:spPr>
          <a:xfrm>
            <a:off x="0" y="0"/>
            <a:ext cx="2133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Problems on the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re is one main problems that has happened to this eco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problem is pollution of the water that runs all through the rivers and stre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" descr="http://2.bp.blogspot.com/_SpH7EL7jLqU/Swux64HJHbI/AAAAAAAAAGg/-cQecMBM2qE/s1600/river-pollution-pv.jpg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Effect on Organism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Over the past six years, the Humber River has been hit with 900 oil spills and 750 chemical spil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acteria levels haven't improved, fish habitat has deteriorated and summer water flows have decrease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Effect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f there is pollution then the animals can’t live in the water and all the surrounding animals won’t be able to drink from the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is would probably kill of the entire or at least most of this ecosystem if it got too b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Effects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irst the weaker animals would die off then there predators would di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ack of food would cause their predators to die and this chain would go on until something is done or until most or all of the animals d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How Humans Effect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are the ones that are dumping our garbage into the river and stream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lso in more rural areas we would put the pesticides on the plants that would cause runoff into the riv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olutions to the Probl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teps to helping clean up the river have already been taken but more help is need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f we want to put the river back into the shape it was in before this was happening people al around Toronto will have to help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olutions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eople living near the Humber river have already volunteered to help clean it up but that is not enough peop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y solution is to get more people to help clean up the parts of the river that flow in Toronto because there are at least a million people that could help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olutions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other thing that contributes to the pollution problem is runoff from fa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y solution to this problem is to contol how much pesticide farmers can put on their cr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is would help reduce the pollution going into the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 think that fresh water streams are a wonderful thing that I want to preserve so my grandchildren can s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is can happen if we all look out for these ecosystems and if we all help clean them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re are many different solutions to the problems that have come up so it can be d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http://www.chrs.ca/Rivers/Humber/Humber_e.ht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http://themaplescottages.ca/userfiles/image/lake%20trout.jp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http://www.combat-fishing.com/SFWOzStreamMiddle.JP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Tahoma"/>
              </a:rPr>
              <a:t>http://2.bp.blogspot.com/_SpH7EL7jLqU/Swux64HJHbI/AAAAAAAAAGg/-cQecMBM2qE/s1600/river-pollution-pv.jp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ble of Content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ome summar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cosystems within the bi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roduc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 we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ect on animals by huma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ats and sol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ty interaction within the eco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ncl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ome Summar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nada has the largest supply of freshwater of any country in the wor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freshwater biome has a wide range of organisms that live a sustainable lifestyle, whether they are aquatic or terrestri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ummary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salt concentration of the water is usually less than 1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quatic animals and plants that live there can only survive because of this concentr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f an animal from this biome was moved to a marine biome it would die because it wouldn’t be used to that salt concentr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Summary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is biome consists of many resources necessary for the survival of organisms within their eco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ny different fish species live in this biome at this is one of our natural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http://themaplescottages.ca/userfiles/image/lake%20trout.jpg"/>
          <p:cNvPicPr/>
          <p:nvPr/>
        </p:nvPicPr>
        <p:blipFill>
          <a:blip r:embed="rId1"/>
          <a:stretch/>
        </p:blipFill>
        <p:spPr>
          <a:xfrm>
            <a:off x="533520" y="4952880"/>
            <a:ext cx="7619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Ecosystems Within the Bio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re are 5 main types of Ecosystems within the fresh water Bi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y are; ponds, creeks, rivers, lakes and the one I will be focusing on is stream Eco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 will be looking at one set of streams in particular and this will be in the Humber Ri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Introduction to my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 Humber River is located extensively in southern Ontario between Georgian Bay and Lake Ontari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t flows through the Greater Toronto Ar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ts mouth is in Toronto and in the Etobicoke are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 main part of the Humber River travels 100 km through a variety of natural habitats in both rural and urban landsca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Food We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2" descr="http://www.combat-fishing.com/SFWOzStreamMiddle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4:22:07Z</dcterms:created>
  <dc:creator>User</dc:creator>
  <dc:description/>
  <dc:language>en-US</dc:language>
  <cp:lastModifiedBy>Lisa</cp:lastModifiedBy>
  <dcterms:modified xsi:type="dcterms:W3CDTF">2010-10-18T12:27:02Z</dcterms:modified>
  <cp:revision>33</cp:revision>
  <dc:subject/>
  <dc:title>Streams</dc:title>
</cp:coreProperties>
</file>